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88160" y="1527120"/>
            <a:ext cx="2871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8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00760" y="21337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44792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17524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05740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576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2800" y="611676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1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512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32076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6253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93024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74628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cu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:    5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44792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175248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05740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3520" y="6095880"/>
            <a:ext cx="30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2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320760"/>
            <a:ext cx="23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625320"/>
            <a:ext cx="19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93024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85800" y="12034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square root of 48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  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234756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9076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75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75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75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44792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175248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057400"/>
            <a:ext cx="18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9884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 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5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32076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62532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930240"/>
            <a:ext cx="20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73188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 •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  7 • (6 -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   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44792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175248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0574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576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-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32076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6253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9302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71400" y="733320"/>
            <a:ext cx="518184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 + (-19)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   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44792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175248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0574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29160" y="1717560"/>
            <a:ext cx="22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56920" y="4222800"/>
            <a:ext cx="660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borrowed from some gu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200" y="5851440"/>
            <a:ext cx="6901560" cy="1008720"/>
            <a:chOff x="132120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20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12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33520" y="6095880"/>
            <a:ext cx="28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320760"/>
            <a:ext cx="23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62532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93024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71400" y="844560"/>
            <a:ext cx="5181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3 • (11 - 5) ÷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 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44792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17524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0574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-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320760"/>
            <a:ext cx="23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6253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93024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85800" y="81756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 • -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:   -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44792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175248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05740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3520" y="6095880"/>
            <a:ext cx="26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1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32076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62532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93024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98400" y="609480"/>
            <a:ext cx="5181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 + 2[3 + (5 - 2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 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>
            <a:off x="224244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39076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44792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175248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$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$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$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32076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62532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9302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9000" y="609480"/>
            <a:ext cx="617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im earned $127.86 last month.  He spent about 20% of it.  Which of the estimates is the closest amount to what Jim sp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:    $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44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17524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0574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-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320760"/>
            <a:ext cx="23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62532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9302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85800" y="806400"/>
            <a:ext cx="5181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27 - (-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  -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4479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175248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05740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$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33520" y="6095880"/>
            <a:ext cx="28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$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$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$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3207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625320"/>
            <a:ext cx="23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93024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27120" y="628560"/>
            <a:ext cx="518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a 75% discount on a pair of shoes that originally costs $77.95.  Which of these is the closest estimate to the sale pr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:    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146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44792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17524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05740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646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3207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62532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9302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58800" y="546120"/>
            <a:ext cx="51814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8 out of 608 students selected pizza as their favorite food.  Approximately, what percent selected pizza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:  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44792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17524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05740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08360" y="4800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32076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6253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93024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85800" y="66672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r. Wagaman wants every student in this class to score high on the PSSA test.  What percent of students will pass the PSSA test this y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: 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1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2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0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7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5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4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2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8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12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12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123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123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20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60660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9097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86040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1.6 •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97160" y="2990880"/>
            <a:ext cx="23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 12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44792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752480"/>
            <a:ext cx="20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05740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3623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27440" y="4800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0.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 5.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 0.5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 4.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32076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6253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93024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23516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80316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4.26 - 9.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0" y="26686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:  4.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44792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1752480"/>
            <a:ext cx="21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05740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   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    4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32076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625320"/>
            <a:ext cx="25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9302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106056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quare root of 64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27874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Hempfield High School</cp:lastModifiedBy>
  <dcterms:modified xsi:type="dcterms:W3CDTF">2009-11-17T01:09:05Z</dcterms:modified>
  <cp:revision>71</cp:revision>
  <dc:subject/>
  <dc:title>No Slide Title</dc:title>
</cp:coreProperties>
</file>